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7B4-496D-4728-B231-9FF7DBFC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1AF-219E-41AD-9565-24587931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12C-F209-4AEB-A64F-F23D5F41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31C-9820-468B-9D26-92FDDCE2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CBEA-CEE7-4864-B589-05CAFE2E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D16E-5096-40B6-A6A5-A84798D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A861-E628-4B1C-9171-DB348F08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CD51-3DB3-4C20-973C-BD1D699B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AFAA-B029-4A6B-95BD-C161EA3C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75D3-5F01-4572-B611-1A770A10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6AF0-D419-44CE-BA29-06669EF4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62F-FC1A-4E6D-A321-DA0384F3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17F1-759E-48A1-997D-127572F8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6A22-2476-4CBA-86C9-3C258B42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FFF4-601A-45A8-A1EA-B4A8DF38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4487-600B-4EAA-A4E7-6CCA10A0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6CF2-611A-4F0A-BF44-2E01B1C5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6DC-85F7-4B15-934E-A5D7AAD8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51E-D21B-4870-A785-AA4F1063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3E1-8EB9-41AB-83A2-FFF15255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A94-117E-40FA-8AA7-3CEB7F7F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C99-CDCD-457D-B1BC-32604426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53E-C270-4EED-9D04-DC95575D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BC2-1157-4F27-8A9C-4DCBC3AB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E11D-D208-43B6-82B2-F0B5931F0C7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3DCB-5FC1-476B-B816-79325E6D987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75920"/>
            <a:ext cx="863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CLARENCE"/>
                <a:ea typeface="CLARENCE"/>
              </a:rPr>
              <a:t>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584352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CLARENCE"/>
                <a:ea typeface="CLARENCE"/>
              </a:rPr>
              <a:t></a:t>
            </a: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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CLARENCE"/>
                <a:ea typeface="CLARENCE"/>
              </a:rPr>
              <a:t>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CLARENCE"/>
                <a:ea typeface="CLARENCE"/>
              </a:rPr>
              <a:t></a:t>
            </a:r>
            <a:r>
              <a:rPr b="1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</a:t>
            </a: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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CLARENCE"/>
                <a:ea typeface="CLARENCE"/>
              </a:rPr>
              <a:t></a:t>
            </a: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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1523880"/>
            <a:ext cx="2870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omas Malthu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59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dismal science of econom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ulation growth will exceed the food supp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mine, war, disaster needed to keep population in chec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48520" y="2057400"/>
            <a:ext cx="2627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384480"/>
            <a:ext cx="863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CLARENCE"/>
                <a:ea typeface="CLARENCE"/>
              </a:rPr>
              <a:t>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LARENCE"/>
                <a:ea typeface="CLARENCE"/>
              </a:rPr>
              <a:t>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CLARENCE"/>
                <a:ea typeface="CLARENCE"/>
              </a:rPr>
              <a:t>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75920"/>
            <a:ext cx="863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CLARENCE"/>
                <a:ea typeface="CLARENCE"/>
              </a:rPr>
              <a:t>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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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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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75920"/>
            <a:ext cx="8637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CLARENCE"/>
                <a:ea typeface="CLARENCE"/>
              </a:rPr>
              <a:t>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</a:t>
            </a:r>
            <a:r>
              <a:rPr b="0" lang="en-US" sz="4400" spc="-1" strike="noStrike" baseline="30000">
                <a:solidFill>
                  <a:srgbClr val="ffffcc"/>
                </a:solidFill>
                <a:latin typeface="CLARENCE"/>
                <a:ea typeface="CLARENCE"/>
              </a:rPr>
              <a:t></a:t>
            </a: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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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LARENCE"/>
                <a:ea typeface="CLARENCE"/>
              </a:rPr>
              <a:t>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CE"/>
                <a:ea typeface="CLARENCE"/>
              </a:rPr>
              <a:t>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569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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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–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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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–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3222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CE"/>
                <a:ea typeface="CLARENCE"/>
              </a:rPr>
              <a:t>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77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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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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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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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149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CE"/>
                <a:ea typeface="CLARENCE"/>
              </a:rPr>
              <a:t>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569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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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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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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28608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LARENCE"/>
                <a:ea typeface="CLARENCE"/>
              </a:rPr>
              <a:t>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386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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LARENCE"/>
                <a:ea typeface="CLARENCE"/>
              </a:rPr>
              <a:t>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8815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" y="-319572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9000" rIns="549000" tIns="549000" bIns="54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ropean Railroad Expansion, 1825-187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ata are kilometers of railroad track in use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" y="91710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rce: Compiled from data in B.R. Mitchell, </a:t>
            </a:r>
            <a:r>
              <a:rPr b="0" i="1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ropea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istorical Statistics, 1750-1970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London: Macmillan, 1975), pp. 581-58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17970" t="0" r="17188" b="17970"/>
          <a:stretch/>
        </p:blipFill>
        <p:spPr>
          <a:xfrm>
            <a:off x="838080" y="304920"/>
            <a:ext cx="74678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8640" y="531000"/>
            <a:ext cx="8955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avid Ricar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1676520"/>
            <a:ext cx="5029200" cy="41907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ron Law of Wag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1240" y="129528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w population = Higher w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5040" y="3048120"/>
            <a:ext cx="190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w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pop. grow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2000" y="5867280"/>
            <a:ext cx="18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pop. 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wer w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24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wer w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pop. dec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905120"/>
            <a:ext cx="236232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7960" y="3581280"/>
            <a:ext cx="2057400" cy="221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133720" y="3580920"/>
            <a:ext cx="2286000" cy="221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209680" y="1904760"/>
            <a:ext cx="221004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3:49:51Z</dcterms:created>
  <dc:creator>Computer Services</dc:creator>
  <dc:description/>
  <dc:language>en-US</dc:language>
  <cp:lastModifiedBy>Susan Vanderpool</cp:lastModifiedBy>
  <dcterms:modified xsi:type="dcterms:W3CDTF">2009-01-04T03:05:29Z</dcterms:modified>
  <cp:revision>4</cp:revision>
  <dc:subject/>
  <dc:title>Tuesday Tidings</dc:title>
</cp:coreProperties>
</file>